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7B81DA-136F-47AA-A1D9-5C15F17008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CF25F7-CABF-4F71-97DE-A1B3275EB0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6C5115-D3BC-4B79-9BFD-113F982E0C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E4BDC9-FEE5-44E7-9BBD-D20A91AF85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49E4807-ECAD-4503-9653-CCC0ADE007E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8DF5D2-1A6C-4C65-9648-55C189CFE9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CEE9F6-6182-44AE-B1B9-6BCA91FF33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70B2FE-6029-461E-A11E-3BBF4BE5CF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CD491F-7AA6-4CC5-9F15-EFD9FA1114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72008C-654A-47A0-9C2B-019F110B45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46B87D-3262-45F2-8517-24C72B3F1B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2C8D28-4C83-44E0-B223-35F8013251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D3E0EE-3D37-49C1-82B0-3F9A63EA1A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68C805-AE64-4463-AA9B-53CED98379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CE65C4-72F0-41AA-B3CC-73487B5822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26745B4-23A3-4CB9-9811-3E248AB78C5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7BE2933-F80F-4F8A-B166-C28D23A104C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B76559-62A0-4BA3-A64A-9DC5EF7598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F366AF-0F4A-4EAB-A237-03F4290B6F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66D51C-A69D-4E69-9067-08040BCC41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056470-87A2-4116-94F5-93C4E39A23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53267B-95E3-420C-A449-FCF6A51366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E3583F-1334-4DBE-8D85-1338464B8D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7D4636-2CE0-458A-9ACA-93F6D5D34D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25B93B-5D4D-4312-ADD8-C4BFF574E9C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805A93-4752-4D65-9A0A-08831BAAE6A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FC4F75C-2350-4DF0-8360-EF3073AEF6A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0697CE2-BFC4-4A7A-B7B0-AC8725691373}"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F865DB-597F-4E8B-985F-B1DBD7DDA788}"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63EB9D-DEDD-45C0-9321-7495A8D628EB}"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45634D-6033-4A0A-A59D-E8323319CF55}"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1145B1-073A-4E6A-A8E6-EB18AEDB3956}"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4C444E-AC1D-4791-B52D-50D7FBF8B2C8}"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F2CC22-532D-436C-8676-FCDE67F5352B}"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5836F2-08C0-4921-8107-EA1222614915}"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210938-46E0-4B01-88AA-85FDEDC33279}"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87B5C0-9DFE-45D0-B026-D942E9C91F7C}"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7FEB44-BE63-438F-8F47-7BF6C9B60C31}"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1A1429-CF06-45D0-98B3-370E74EB323B}"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071C45-691B-40FE-BE96-B689305576E8}"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9A16AF-DF30-43C6-8E2A-B024A671865C}"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CBCCA3-B865-4786-8FB0-D6D98BBC3FE3}"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BD0929-498C-4A0C-96B4-77217A6E3FF3}"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47E3D8-DB2C-4CD3-90FE-F832D4B914AA}"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EC5CCC-05A7-4EFF-9FDC-55BEF8A6AD80}"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3C5F85-626E-4B8C-9B27-502E0DFE15F6}"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BE79FD-4C09-418D-925E-FF6C0F899B1B}"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E03344-0BCE-42F8-A7DE-739D208699AA}"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289F48-34DD-4CEF-9BC2-F18222E417EE}"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3F60D1-FB64-4C1A-BA45-671F0FEC11B6}"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375A91-8D08-4516-A7C5-E231FAFF89CD}"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5C2C2F-A8B5-4C9F-B6CC-08EABDEFE705}"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A21196-EF4D-4948-B4F7-4F9BAC002F8C}"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B610DD1-F381-4F38-BF20-87AD230BB7AE}"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849121-409D-47C6-B9B1-BCB9A727DA4C}"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795282-28B8-43DC-BC94-40FC6173963A}"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9D8EC7-BC00-4212-B6EB-6D42BFAE8A62}"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C9FB9E-366D-4A3F-AD6B-BA98F0C356C2}"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47B17B-7BC7-4B10-BA8A-86155C5F22B2}"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BD080A-1B6C-41F4-9AC8-D9E6E9A1B345}"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CFFDBA-388F-443F-A245-84BAF930961A}"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E7748F-E433-43FC-AD73-8AC552443C88}"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05E7FD-558D-4E60-80BC-BF50C0DA1DB4}"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1BAC42-FB23-400A-A26A-481B81CDB7D7}"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39E881-009C-40C6-B5EE-2D1FA41C3338}"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415801-0DCE-4E05-B324-9EEDFE9920CD}"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B031F3-6BC9-4436-A202-456E0FDE246A}"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F2809D-EDC0-4ACD-9741-E8084CC6EDD3}"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5A77C2-650B-4045-9AC8-C0282A934882}"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17170D-64E2-471A-9180-8C113B44A23B}"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2DBEA1-E1B7-4864-AEEA-8C29207E67A3}"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4635D9-65FA-4EA6-8892-695259D2B68F}"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39EAA8-EA6C-4D0B-A1A8-76CFCE4A8330}"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A9DF65-1ADD-4B69-B82B-9300FE36903A}"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0DDA955-77A9-4847-8095-2E89ACFE57F2}"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6F5D67-BD5D-4F56-9410-AA835212CF36}"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DAE396-B1D5-44F9-B31C-42AD49507238}"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B41DD14-720D-4902-860E-73027B8ECE9A}"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7CDA7C-EBCB-4ACC-B43D-1EFC3DFC66EF}"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B53B12-FA73-4236-86FD-0B2BC3EE7013}"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60DEC7-A0D1-421F-925A-A5035A50B15C}"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C25072-BA3A-4EC9-A8F0-F12A35EA7DBF}"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17AE57-E0AF-45CD-AA43-D3A63E2FF0A8}"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C8C13A-199C-4779-AFA1-06A80D1A318C}"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8B50E0-61EA-43E8-9C46-80EBABA606E1}"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F9F416A-6FA8-43FA-B917-A9671C640592}"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485BD2-88EC-4547-BEFF-6929D40E0D8A}"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100DE9-0B2F-4224-A22A-643E04667CDF}"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868FD2-54D4-4820-86C5-363D93E81DF2}"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D19EB9-B93B-4B1A-A18D-0258ACF8CAD2}"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268032-9183-44E3-AB86-C7B6BD016100}"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65A6BE5-4950-4249-8571-EE4B9F253D89}"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DCC0CE-8050-4351-84AB-92E075BB8B9C}"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41B295-0CD7-4FEB-90D1-AC5AB90DD9E7}"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81A16C-E4CD-4EBF-BA0E-AED33D9563E2}"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B07764-D25B-442D-B87B-2487DF1EE092}"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EE26194-B450-4EB0-AE5C-800449565E13}"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D338E4-79F6-4672-8283-9649D09E7586}"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7D2DB5-0BD7-4D2A-9478-49D8A7662F51}"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F3DAFD-0763-4F1E-982A-96F33D7F326E}"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074588-A95E-43CD-8404-AD6B460DECDC}"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B66F86-7247-4778-80FC-A6419CA436A9}"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47A7AA-04F8-4EA9-A550-36EE1698288A}"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7787C35-D607-4172-830B-1D5CEDCFA514}"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6E4849-27DC-4D19-B8B1-4B45AC78C785}"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E88819-F45E-41A3-AFA7-ADC80C069113}"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DE7C22-226B-4B53-82E5-606933690CDC}"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EA3EB47-24D0-421B-A0D7-34699BEF8AB0}"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328FDD-4132-414A-8EAF-4F35713A2B0D}"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16BA99D-AF5C-4670-90CC-BE99C02A1814}"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773B75-FB43-46FF-B11C-B50827E03E18}"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BEF8F6-E8B4-41BB-BB5E-C4462E249DF3}"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0F624C-DCA9-400E-B108-5FA7D1130803}"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15701A-79EA-411A-BDFD-B8A058E93BE3}"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0BA361-43AC-4AFC-9395-685FF750BB59}"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CDD194-F1C9-4529-AA5F-74C16B4C7426}"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9BE6BD-822F-457D-8A68-AD8FEC2DBFDF}"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7DF0FF-BB0D-4583-9D98-27BB87DD62C1}"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5E3A50-3173-40CB-8079-7B076720AC30}"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CBBEA0-E968-4EEF-9A58-6532A7DB6B9C}"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6C8E70-2757-432D-A966-224EF90BB364}"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A2E3FD-0DA4-4D99-93DC-4AC70B43104F}"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709386-6C66-4147-8088-35E68F7D94ED}"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C068C3-B3B0-417B-A47E-9768EA571316}"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B7CDC6-D899-4C33-83B5-3E5252149258}"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CBBA91B-611F-4478-B98A-915FA2265D1C}"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210231-FC0B-4BD2-863A-007434D592D7}"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760A15-811F-4682-8F5E-F9EBF17A43CE}"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E6CA3F-3D85-4714-95E4-4473268620A2}"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40E9E0-8AB4-4E0C-A29F-18002AF315D2}"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305B95-85E3-4610-8D5B-E847DC859DEA}"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1A0A29-7E61-4BC4-9180-EE8CA98F8481}"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1D4D70-D72E-41CE-95EA-269F77C0B251}"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05203E-4DBC-414B-9876-177932C25490}"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4F5C1F-6477-4C16-99E8-D380BC9736CC}"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F5DBF2-97B9-4026-8878-085FC37F5A7E}"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0D0481-1DD3-4A9D-A866-27BC925657F8}"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8C36F0-0013-4120-9D04-76E3B446039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D43313-5264-4215-A009-701FEF108F92}"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A1AAB2-625A-4536-90EF-07800805CD50}"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F26E57-1AA0-48EF-A3A8-D1B2C026444A}"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FAA049-2DCA-467E-AA4F-A96903535D97}"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6528E2-3F70-4C4A-A477-2CC1731819C6}"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8F072E-0D78-4C2C-891E-8C99B2EAD010}"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5313BC-6B94-428C-93BB-AB9C91F47231}"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084E50-29E6-483F-9127-99AD9A4E7E01}"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04191E-F756-467F-A2C4-2523F3A96F0F}"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A59C60-B20A-4CF2-A58B-9D99C1DF5978}"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DEF818-3159-417C-B94E-F2B6545B5CF4}"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F47627-C6FA-4BEA-9326-AB909495A76C}"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2E6040-F92E-4A30-A0D7-2304AE393BAD}"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6F2239-6A7B-4D28-B33B-A432166585C1}"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90ED81-5612-4C0F-99E3-3450FF0BBEA7}"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8FFF6C1-22B3-4D6A-B8B5-57B13FFBF73D}"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9D7167-68CC-430D-A411-832C7503E54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DDB419-30C9-45AF-9FBC-BFE8D32906C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6FF12A-32A1-4A93-BEC6-2E1FF1C23A8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D1951B-CB4D-424A-A547-6C9AF84E82B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82C3A3-7D50-4E6C-8C8A-7C7AF3AEE32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DA0427-5B00-4758-A536-16EBFD28ECD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C82FAD2-362F-40B9-8FBD-7051495B35A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076CD5-ACCF-4D4A-B701-89FCC0DF129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3CF716-8E71-4D53-93CE-25F7F0603CF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33B79F-4DD5-458A-BDCA-B7C7C7A23A1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4F5E41-1BEE-4F1C-952C-9665AFA625E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0F8685-1703-48E1-BE2C-D0C889AD326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0EB028-7261-4336-942A-3E93361CFE9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415B5F-B25E-4F33-92E1-0DFD89A1034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0871B2-F50E-4BE5-A040-8B25A76850C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800F88-8164-49EC-AEDF-D187C81A4EC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A8C26C-0A0A-47A3-A612-2927A1BBA4E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31A0C2-255C-4157-8181-7C7F9EFFE86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2FD7D6-2695-487C-A138-4A213B6707B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9139F0-8DF2-458A-B973-EEBC09E632C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72D096-23D4-4B9C-BE34-18D66F52466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8227F9-A2B2-4E9D-AFB1-7B8C6998FE3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CE398F-D72F-4361-83B4-EB486B7A5BA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38488E-B4FB-43DE-B916-A298482E423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BB56E8-3275-4BEC-8A04-5C4BDE9202B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DC89B4-E13F-4F2E-A2A7-E48386087A0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A1B022-3B11-4C4F-BCF6-937F674B292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500F3E-C864-4801-B169-04C97407A6B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531861-CEFB-4597-8E85-40994EF8D5C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E20ABE-C707-4718-9FD1-42E86D2FAF6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E8DEE7-3969-450F-AC54-80EB54C7617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FA2AAA-9040-45DE-B45A-730799071A2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B41A81-F1D5-4E7C-9F91-482D76B3E07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16FA9A-F445-4E02-A01F-741E94E4141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8B7167-E9E8-490B-80B6-C941E74B71F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A0A11F-D853-4D7C-9DAE-6691E3B83CF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1F9994-A742-4EEF-863B-A852BB178B5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131311-7130-4865-A47C-06AD9E2F6B4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A131AB-D9F4-4F00-9EDD-608DBDF87F6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E2B4D9-95EF-49CD-BB52-E949F9DF9E9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12C5BA-F890-4FDE-80F3-D6C06E4F72F7}"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FCF6F7-0229-4FC5-8086-B11D74431382}"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61FA17-B4EA-40AF-BE28-A78819E4550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5D79BD-0DFD-4F4D-8159-4E1180E8099E}"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AD044A-1C12-4D60-B609-0CB30ACF30B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A10A1E-C2B3-41CA-9DE0-99768BF0388C}"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600BA3-140E-4CD7-B946-BC663FB3CED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C45442D-D6EA-4C5C-83E9-2C2A9D8917A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A79421-DC58-4AF6-945B-DDD697CD733A}"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882921-5ECD-4A80-987C-8F2C8181C28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051623-7568-4500-9D63-05FEC70641D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6A2FD5-5835-4B6F-BF9E-8CB3272676B3}"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813501-6BE4-42F4-9991-A43835A68A8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A3F08E-BF10-426A-9FDA-EDC47BAECE80}"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CA91B4-8BE6-4675-B107-FCFF76B8ABB2}"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40FB69-C85A-48F3-955B-6612F5B08A2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E42367A-2E9F-47DF-832F-E5D2433D64B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0EC8C6-A0C2-4673-B186-C7F50B86B19D}"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EE8741-9931-415E-AE99-5D25B0E64D3D}"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6A3772-360C-4066-87B3-03E442DCD186}"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1B9E1A-5D0C-4467-9EB6-6F380840B3E9}"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5DC0AB-BB2E-4340-849A-D37A4FC89D1B}"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2A4839-09E6-4192-89B6-03F0E989D355}"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54FFFD-F423-4BE1-91D1-4E2E028119F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C0AEA9-ABD5-49BC-AD6C-DF878C955E3B}"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F28AC1-A5EF-476E-B9C7-E5D219AA62C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3AB772-207F-4C6E-84D7-6ED222E2A861}"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5A51D5-94A4-4CBC-B0ED-E7C845C57A96}"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40823E-ECD4-46DD-A00A-00D7D5F8377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1394E1-5004-4E1F-90DE-E1AEE9DEA8A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B6575E-F398-49A7-86C1-4BEDA391C9FD}"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15B8783-8785-4425-B5A3-DCB57535B722}"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E04962-E413-4DBE-AACF-EB69BA3CFC0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597772-ECCA-4EF2-BDD5-FAAC5BD3AC1E}"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41DF3F-C4BF-4B20-92F7-831705B53597}"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4D6C72-F39A-4430-BF70-F3EDCA85298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D36EE1-0818-460C-ABF0-36A36D046BA7}"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680CB6-8619-432D-8C8A-6F26A6CE577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946D5F-63B4-4337-8795-09467532287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BF4A05-40E8-44BD-B8B0-90569D80A626}"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F0C768-8BF6-483E-BFC5-04ED4F0BFB76}"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29F3EA-C649-417A-9BCD-23FFC916B4D4}"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BF535B-FA2F-40F7-A830-8619AD2D4C70}"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5DCC6C-01F8-4F69-85B6-3734B02A9B38}"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46F6EA-6470-4FF4-B6CB-40BEB54CB951}"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